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30721"/>
        <c:axId val="13619203"/>
      </c:barChart>
      <c:catAx>
        <c:axId val="46230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19203"/>
        <c:crosses val="autoZero"/>
        <c:auto val="1"/>
        <c:lblAlgn val="ctr"/>
        <c:lblOffset val="100"/>
        <c:noMultiLvlLbl val="0"/>
      </c:catAx>
      <c:valAx>
        <c:axId val="13619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30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39D-0E75-414F-9147-0C164880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692-72F7-4B99-8522-51B977BC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DDD-6658-4947-BDDC-A912955D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2C6-476F-4100-9C70-A84F37B5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15C-C806-4008-8861-1B85808D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334-9D1F-4F24-9786-B926E64B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D11-67BF-4FBC-AD1C-4D776210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AD9-EA60-4645-B70B-C2317834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56A-D6E7-4685-9505-DA4AE680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AF5-8CEF-4C39-969E-C7536B4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BD0-556F-49B0-A970-AE12754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571-9570-4E2D-8D6D-EC83D2C5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00ABB-4FC9-48C5-B30F-6FA93CA178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