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365114"/>
        <c:axId val="80554999"/>
      </c:barChart>
      <c:catAx>
        <c:axId val="563651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54999"/>
        <c:crosses val="autoZero"/>
        <c:auto val="1"/>
        <c:lblAlgn val="ctr"/>
        <c:lblOffset val="100"/>
        <c:noMultiLvlLbl val="0"/>
      </c:catAx>
      <c:valAx>
        <c:axId val="805549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651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6869-BB76-4A9B-939E-D2332299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BDCF-CDF5-499C-BC3F-5DA73B2E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C478-B2AB-401F-80B8-B95B3084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070-9E74-40C0-BBE6-AEC8A5CE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96D-3E07-4086-8FAE-5D249DAB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7838-5DB9-4BBA-9D0A-1ABD1A38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9364-963E-4161-9FEB-93A5FD4A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3A67-88AD-493A-A46A-E67168A3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02E0-595A-47C6-8BE1-1540BBFC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D15-D742-4A02-A6E7-B14F30E4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5B1-237D-42C7-90A7-5E4C4813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BD84-4BA7-432D-99FC-3EF7EFEE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E654C-A3DC-4C98-AE1B-839828B7F8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