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03133"/>
        <c:axId val="69786476"/>
      </c:barChart>
      <c:catAx>
        <c:axId val="11203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86476"/>
        <c:crosses val="autoZero"/>
        <c:auto val="1"/>
        <c:lblAlgn val="ctr"/>
        <c:lblOffset val="100"/>
        <c:noMultiLvlLbl val="0"/>
      </c:catAx>
      <c:valAx>
        <c:axId val="69786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03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315-5336-4BD8-AFEC-BBC7E35A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DF0-7A98-4319-A54E-67028825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048-876A-4158-852D-1687EBEC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8C5-554E-46FD-B9CF-EF9A853D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0C1-DF7C-43E8-A26E-F90C0BDE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C5B-34DA-40D3-91A3-762C6391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45D-A59F-43FE-9A88-44192247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081-5D79-406D-A9C6-E35DB0DB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522-E9F3-4017-9452-65153F6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3A6-6DD4-4D28-8CEE-409B401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B04-FECF-47EC-B5B8-9A45666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C42-5B02-4E27-9DCF-0D85C8FA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8C4A1-5409-403D-B9FC-730DC88B15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