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4400881"/>
        <c:axId val="27854967"/>
      </c:barChart>
      <c:catAx>
        <c:axId val="4440088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854967"/>
        <c:crosses val="autoZero"/>
        <c:auto val="1"/>
        <c:lblAlgn val="ctr"/>
        <c:lblOffset val="100"/>
        <c:noMultiLvlLbl val="0"/>
      </c:catAx>
      <c:valAx>
        <c:axId val="2785496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40088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0FA1-68BF-421F-8472-E4F5E8C58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03A8-219E-423B-A439-22959DE14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EFA0-7608-4869-B5F4-8985F9CFC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A049-1C49-4AB3-AE78-06D244EAA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C219-8BF0-4423-9441-13940A621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7B74-37DA-4F03-848A-FE49A8633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EC64-3C5C-4FFE-AE15-193721B38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9A35-AD0E-40C2-8A7E-0EDCD3C07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7EBF-FFF5-4652-B017-A7D32E6F9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E7E9-3379-4D34-9219-F02DF03AA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E59B-6534-41E3-9A72-1250CAC03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1C2C-0029-4BFF-99B6-E2152188A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AF8A5F-8636-4B4D-88C4-34EFBD7AA97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