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82845"/>
        <c:axId val="52482217"/>
      </c:barChart>
      <c:catAx>
        <c:axId val="39482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2217"/>
        <c:crosses val="autoZero"/>
        <c:auto val="1"/>
        <c:lblAlgn val="ctr"/>
        <c:lblOffset val="100"/>
        <c:noMultiLvlLbl val="0"/>
      </c:catAx>
      <c:valAx>
        <c:axId val="52482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2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3FB-25E5-438E-B9C9-6EB79305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69B-C6B1-4537-ADE4-1D6AC6AF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C7B-1187-4EE7-A737-6A6E3929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CE0-76FD-47F5-9252-8CA13759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D63-FF8A-4A23-BC0C-7602E46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053-F695-48AE-B6F7-9F6489A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3E2-99F6-4A8F-9D49-7970BE8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4D7-B226-45A2-A851-1788F91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5D9-80C1-4F85-B223-BFBDC49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1B1-D97B-4B5F-9437-B77A6D0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8CB-5F0B-47FF-82F8-D83B05A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376-05EB-4D90-9740-C038D10F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3C348-1030-4F10-B96B-73D2E9FEE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