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0511"/>
        <c:axId val="43656910"/>
      </c:barChart>
      <c:catAx>
        <c:axId val="6010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56910"/>
        <c:crosses val="autoZero"/>
        <c:auto val="1"/>
        <c:lblAlgn val="ctr"/>
        <c:lblOffset val="100"/>
        <c:noMultiLvlLbl val="0"/>
      </c:catAx>
      <c:valAx>
        <c:axId val="43656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0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4C3-874A-4478-84E6-6973EC0A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B5A-075E-4A7B-856E-AEB1F310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85D-6B0F-4A52-88D9-0B202FDF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293-BDA8-486E-8A16-4B8A0391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2EB-E801-4EF4-8FAD-009BFC9C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EA2-2AF6-4A0C-A465-DD1FB216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BCC-1396-469E-AAFD-223E0725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311-B2FF-4DF2-B0C5-25E8BC78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A2E-CC9D-42B0-B6C3-A42614AC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6EB-6068-4607-896C-97DECFEF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C53-8EDD-41A7-B8C8-204C20E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4C2-D18A-47CC-A52B-4AD21F3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FF783-72A3-4BA7-A317-1FAC09705E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